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21F-CF0A-4C99-9788-EF0A31AE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54F-0BE0-4ACA-B233-B5BBF20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BEF-1B8C-4E2B-8F02-5852F7B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0D2-5811-4B2E-9B5D-26B6AE49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6C3-C5CA-46FA-9F00-F6D6834C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EC3-56B5-4383-AD46-D0E3F22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789-7A12-47AC-95F6-BE4C157D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D3E-45CE-42BB-8286-B0902C1F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10B-E804-4C7B-9178-D305FF7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AAA-C402-4733-BE35-FA4F454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75C-18AD-4438-9A7F-EB9312C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68B-B466-4BF8-857B-6B1D400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EE15-58BD-4C80-A3D5-FEED2E8E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85800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95480" y="5105520"/>
            <a:ext cx="53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708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16292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71629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0:38:39Z</dcterms:modified>
  <cp:revision>41</cp:revision>
  <dc:subject/>
  <dc:title>PowerPoint Presentation</dc:title>
</cp:coreProperties>
</file>